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923-973D-4B85-9084-C40DD0D9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54F-CD74-4720-AEC6-D911718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4B5-6C0F-43B7-BD04-C386BA8D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34C-DB7E-4D84-BD3D-434CB75E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B16-580F-4797-AA01-D99D4759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E2A-C3CD-4949-A8B5-06AB13C9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6CF-6908-40FD-93C6-79F993A7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133-BF56-41D0-A2D5-C28DFA19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A15-07B1-4801-B0D3-C132C1B4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668-F32F-4287-9F96-BB6CA65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955-F549-424D-BA41-CFE4C172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689-A90E-459D-9969-F6BADCD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717-02A2-49C3-9FE5-306816F20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the Tig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alvin P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in the Amazon ju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Amazon Jungle Tours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36436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're was a tiger named Joh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tiger%20san%20francisco.jpg"/>
          <p:cNvPicPr/>
          <p:nvPr/>
        </p:nvPicPr>
        <p:blipFill>
          <a:blip r:embed="rId1"/>
          <a:stretch/>
        </p:blipFill>
        <p:spPr>
          <a:xfrm>
            <a:off x="2209680" y="1363680"/>
            <a:ext cx="4953240" cy="524016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ff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ny did not have a mom or a 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rlv.zcache.com/fantasy_tiger_moon_postcard-p239348921981371637qibm_400.jpg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525780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day Johnny met another ti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nglish.people.com.cn/200607/17/images/tiger1.jpg"/>
          <p:cNvPicPr/>
          <p:nvPr/>
        </p:nvPicPr>
        <p:blipFill>
          <a:blip r:embed="rId2"/>
          <a:stretch/>
        </p:blipFill>
        <p:spPr>
          <a:xfrm>
            <a:off x="914400" y="1219320"/>
            <a:ext cx="701028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617220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played and played then they fell in l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year later they had a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pictures.ezpics.net/Photos/Art/ezpics.net/carrington/ArtCards/4.jpg"/>
          <p:cNvPicPr/>
          <p:nvPr/>
        </p:nvPicPr>
        <p:blipFill>
          <a:blip r:embed="rId2"/>
          <a:stretch/>
        </p:blipFill>
        <p:spPr>
          <a:xfrm>
            <a:off x="314280" y="1295280"/>
            <a:ext cx="51148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english.people.com.cn/200605/24/images/tiger1.jpg"/>
          <p:cNvPicPr/>
          <p:nvPr/>
        </p:nvPicPr>
        <p:blipFill>
          <a:blip r:embed="rId3"/>
          <a:stretch/>
        </p:blipFill>
        <p:spPr>
          <a:xfrm>
            <a:off x="5410080" y="1297080"/>
            <a:ext cx="3733920" cy="496080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ad four k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api.ning.com/files/Aid2JCwTaiNIBvburuU4ZTFoRNgPa5ppWq470hm5Hw1LnQYfeuDtiFSC6ZoTWQjr4SfUboPYhA2tgfABQ5lFbVRDlt9g7Qgf/two_tigers_468x307.jpg"/>
          <p:cNvPicPr/>
          <p:nvPr/>
        </p:nvPicPr>
        <p:blipFill>
          <a:blip r:embed="rId2"/>
          <a:stretch/>
        </p:blipFill>
        <p:spPr>
          <a:xfrm>
            <a:off x="0" y="1447920"/>
            <a:ext cx="4457880" cy="304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two tigers"/>
          <p:cNvPicPr/>
          <p:nvPr/>
        </p:nvPicPr>
        <p:blipFill>
          <a:blip r:embed="rId3"/>
          <a:stretch/>
        </p:blipFill>
        <p:spPr>
          <a:xfrm>
            <a:off x="4419720" y="1447920"/>
            <a:ext cx="4724280" cy="2960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838080" y="480060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Johnny finally got the family he always wa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3" descr=""/>
          <p:cNvPicPr/>
          <p:nvPr/>
        </p:nvPicPr>
        <p:blipFill>
          <a:blip r:embed="rId2"/>
          <a:stretch/>
        </p:blipFill>
        <p:spPr>
          <a:xfrm>
            <a:off x="1755720" y="1700280"/>
            <a:ext cx="5705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42Z</dcterms:created>
  <dc:creator>itsuser</dc:creator>
  <dc:description/>
  <dc:language>en-US</dc:language>
  <cp:lastModifiedBy>itsuser</cp:lastModifiedBy>
  <dcterms:modified xsi:type="dcterms:W3CDTF">2009-04-09T17:16:28Z</dcterms:modified>
  <cp:revision>11</cp:revision>
  <dc:subject/>
  <dc:title>Slide 1</dc:title>
</cp:coreProperties>
</file>